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291B-8B26-456A-BBCD-5017843F458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F89-26DC-490C-B206-B6DCF05FB9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94F7-D41A-4EE7-86B4-2EE7E62A0D23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6E2-E4C4-46D7-8D63-7A6C787782B8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9D5-29C1-42BB-ADD0-1DA80EDE2343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58CF-EDB6-4479-8941-AD26E7A6B31C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показал привлекательность языка автоматов при выполнении довольно однообразных зад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ыражения, выбранные для вы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ия их значений, появляются н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чайно. Помимо задачи ожи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ых навыков, подготавли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ется анализ алгебраических выраже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й, который поможет распозн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имметрию и другие особ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, конечно, проявляется и в значени_x0019_ях этих выражений. Так, выра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A9D3-BABC-4312-AD98-2BAF4638E62F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84BB-F601-47F5-857C-5DD464A6338D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показал привлекательность языка автоматов при выполнении довольно однообразных зад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ыражения, выбранные для вы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ия их значений, появляются н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чайно. Помимо задачи ожи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ых навыков, подготавли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ется анализ алгебраических выраже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й, который поможет распозн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имметрию и другие особ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, конечно, проявляется и в значени_x0019_ях этих выражений. Так, выра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2D7-2A93-4413-B131-B0C13372F2DB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CAC-7093-4533-8B86-65E4CAACDC98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показал привлекательность языка автоматов при выполнении довольно однообразных зад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ыражения, выбранные для вы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ия их значений, появляются н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чайно. Помимо задачи ожи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ых навыков, подготавли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ется анализ алгебраических выраже_x0019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й, который поможет распозн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имметрию и другие особ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, конечно, проявляется и в значени_x0019_ях этих выражений. Так, выра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4E64-BEF8-4AB4-97F5-E2F0D9FD2AF5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5EB-9765-4B1F-87F7-467625261986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показал привлекательность языка автоматов при выполнении довольно однообразных зад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ыражения, выбранные для вычисления их значений, появляются не случайно. Помимо задачи ожи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ительных навыков, подготавливается анализ алгебраических выражений, который поможет распознавать их симметрию и другие особ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, конечно, проявляется и в значениях этих выражений. Так, выра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195-FA2A-4B24-97A1-404191ABBB48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CCE-E428-475D-8F6D-CE9B34392783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4D8-FC7A-474C-9BD2-CE1BF624507B}" type="datetime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013D-97FA-4095-A3CD-642670E639D8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7F8-6301-40CA-AFCF-64354A1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659-9E07-47D9-B8FB-F14D76F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4E9-4954-43E5-A1A6-8C79D53C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55C-37E0-4AC1-B822-05518C61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587-661C-4D40-8428-EFE39398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1C6-F152-4AE2-B3E3-0F516608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EBDE-C5A5-4182-8841-7B5988F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81B-4809-4C49-B5E6-0A68DB4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013-7A24-4E6F-9880-5DBC68F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A8A-09F0-46DD-A613-4D5EAD4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AA80-3A32-4FF5-B5EB-3901AA8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F48-1531-4897-B7BA-700F4EB2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F15-4992-4B84-994B-D49C452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5E4C-7BAD-4B3D-B1BE-4653F9E6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330-343E-41F2-82D9-D52DD7F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8B3C-900E-4484-93B2-5306275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4BED-A931-4105-88E1-2DFE7632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AE5-3A56-41F7-BA4E-38280AB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DE0-EADA-4F94-96FE-4C7F562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F07-9418-4FC1-89AA-6464651B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227-3E1D-43B7-B852-021A53F7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1FE-C449-459C-A9D0-BC17F4C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F81-1F94-4458-A095-F0968B0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37C-A783-4748-95DA-C40B408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C9BA-58F3-4DFC-948B-3FA13CF2718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1A1-457B-415C-B284-BD070F176D4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-2.%20&#1042;&#1080;&#1079;&#1091;&#1072;&#1083;&#1080;&#1079;&#1072;&#1094;&#1080;&#1103;.pdf" TargetMode="External"/><Relationship Id="rId2" Type="http://schemas.openxmlformats.org/officeDocument/2006/relationships/hyperlink" Target="file:///&#1057;-2.%20&#1042;&#1080;&#1079;&#1091;&#1072;&#1083;&#1080;&#1079;&#1072;&#1094;&#1080;&#1103;.pdf" TargetMode="External"/><Relationship Id="rId3" Type="http://schemas.openxmlformats.org/officeDocument/2006/relationships/hyperlink" Target="file:///&#1055;&#1088;&#1080;&#1082;&#1083;&#1072;&#1076;&#1085;&#1099;&#1077;%20&#1079;&#1072;&#1076;&#1072;&#1095;&#1080;.pdf" TargetMode="External"/><Relationship Id="rId4" Type="http://schemas.openxmlformats.org/officeDocument/2006/relationships/hyperlink" Target="file:///&#1057;-3.%20&#1047;&#1086;&#1083;&#1086;&#1090;&#1086;&#1077;%20&#1089;&#1077;&#1095;&#1077;&#1085;&#1080;&#1077;.pdf" TargetMode="External"/><Relationship Id="rId5" Type="http://schemas.openxmlformats.org/officeDocument/2006/relationships/hyperlink" Target="file:///&#1057;-5.%20&#1048;&#1089;&#1089;&#1083;&#1077;&#1076;&#1086;&#1074;&#1072;&#1090;&#1077;&#1083;&#1100;&#1089;&#1082;&#1072;&#1103;%20&#1088;&#1072;&#1073;&#1086;&#1090;&#1072;.pdf" TargetMode="External"/><Relationship Id="rId6" Type="http://schemas.openxmlformats.org/officeDocument/2006/relationships/hyperlink" Target="file:///&#1057;-6.%20&#1050;&#1080;&#1090;&#1072;&#1081;&#1089;&#1082;&#1072;&#1103;%20&#1080;&#1075;&#1088;&#1072;.pdf" TargetMode="External"/><Relationship Id="rId7" Type="http://schemas.openxmlformats.org/officeDocument/2006/relationships/hyperlink" Target="file:///&#1057;-6.%20&#1050;&#1080;&#1090;&#1072;&#1081;&#1089;&#1082;&#1072;&#1103;%20&#1080;&#1075;&#1088;&#1072;.pdf" TargetMode="External"/><Relationship Id="rId8" Type="http://schemas.openxmlformats.org/officeDocument/2006/relationships/hyperlink" Target="file:///&#1050;&#1080;&#1090;&#1072;&#1081;&#1089;&#1082;&#1072;&#1103;%20&#1080;&#1075;&#1088;&#1072;.pdf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7;-7.%20&#1043;&#1083;&#1072;&#1074;&#1072;.pdf" TargetMode="External"/><Relationship Id="rId2" Type="http://schemas.openxmlformats.org/officeDocument/2006/relationships/hyperlink" Target="file:///&#1057;-8.%20&#1050;&#1086;&#1084;&#1084;&#1077;&#1085;&#1090;&#1072;&#1088;&#1080;&#1081;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7;-9.%20&#1042;&#1086;&#1087;&#1088;&#1086;&#1089;&#1099;%20&#1080;%20&#1079;&#1072;&#1076;&#1072;&#1085;&#1080;&#1103;..pdf" TargetMode="External"/><Relationship Id="rId2" Type="http://schemas.openxmlformats.org/officeDocument/2006/relationships/hyperlink" Target="file:///&#1057;-9.%20&#1042;&#1086;&#1087;&#1088;&#1086;&#1089;&#1099;%20&#1080;%20&#1079;&#1072;&#1076;&#1072;&#1085;&#1080;&#1103;.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7;-10.%20&#1047;&#1085;&#1072;&#1082;&#1086;&#1084;&#1080;&#1084;&#1089;&#1103;%20&#1089;%20&#1080;&#1089;&#1090;&#1086;&#1088;&#1080;&#1077;&#1081;%20&#1084;&#1072;&#1090;&#1077;&#1084;&#1072;&#1090;&#1080;&#1082;&#1080;.pdf" TargetMode="External"/><Relationship Id="rId2" Type="http://schemas.openxmlformats.org/officeDocument/2006/relationships/hyperlink" Target="file:///&#1057;-1.&#1041;&#1077;&#1089;&#1077;&#1076;&#1072;%20&#1086;%20&#1082;&#1086;&#1088;&#1085;&#1103;&#1093;%20&#1084;&#1085;&#1086;&#1075;&#1086;&#1095;&#1083;&#1077;&#1085;&#1072;.pd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7;-11.%20%20&#1056;&#1077;&#1096;&#1072;&#1077;&#1084;%20&#1074;&#1084;&#1077;&#1089;&#1090;&#1077;.pd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7;-12.%20&#1057;&#1086;&#1086;&#1090;&#1074;&#1077;&#1090;&#1089;&#1090;&#1074;&#1080;&#1077;.pdf" TargetMode="External"/><Relationship Id="rId2" Type="http://schemas.openxmlformats.org/officeDocument/2006/relationships/hyperlink" Target="file:///&#1057;-13.%20&#1047;&#1072;&#1076;&#1072;&#1095;&#1080;%20&#1085;&#1072;%20&#1076;&#1086;&#1082;&#1072;&#1079;&#1072;&#1090;&#1077;&#1083;&#1100;&#1089;&#1090;&#1074;&#1086;.pdf" TargetMode="External"/><Relationship Id="rId3" Type="http://schemas.openxmlformats.org/officeDocument/2006/relationships/hyperlink" Target="file:///&#1057;-14.%20&#1056;&#1072;&#1089;&#1095;&#1077;&#1090;&#1099;.pdf" TargetMode="External"/><Relationship Id="rId4" Type="http://schemas.openxmlformats.org/officeDocument/2006/relationships/hyperlink" Target="file:///&#1057;-15.%20&#1058;&#1077;&#1085;&#1080;&#1089;&#1085;&#1099;&#1081;%20&#1084;&#1103;&#1095;.pdf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-16.%20&#1040;&#1074;&#1090;&#1086;&#1084;&#1072;&#1090;&#1099;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ages%20from%20&#1041;&#1072;&#1096;&#1084;&#1072;&#1082;&#1086;&#1074;%207%20&#1082;&#1083;&#1072;&#1089;&#1089;%20(&#1084;&#1072;&#1082;&#1077;&#1090;)-2.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7;-17.%20&#1054;&#1094;&#1077;&#1085;&#1082;&#1080;..pdf" TargetMode="External"/><Relationship Id="rId2" Type="http://schemas.openxmlformats.org/officeDocument/2006/relationships/hyperlink" Target="file:///&#1055;&#1088;&#1080;&#1082;&#1083;&#1072;&#1076;&#1085;&#1099;&#1077;%20&#1079;&#1072;&#1076;&#1072;&#1095;&#1080;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7;-18.&#1044;&#1086;&#1082;&#1072;&#1079;&#1072;&#1090;&#1077;&#1083;&#1100;&#1089;&#1090;&#1074;&#1072;.pdf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7;-19.%20&#1057;&#1102;&#1078;&#1077;&#1090;&#1099;%20&#1080;%20&#1087;&#1088;&#1086;&#1077;&#1082;&#1090;&#1099;.pdf" TargetMode="External"/><Relationship Id="rId2" Type="http://schemas.openxmlformats.org/officeDocument/2006/relationships/hyperlink" Target="file:///&#1057;&#1102;&#1078;&#1077;&#1090;&#1099;%20&#1080;%20&#1087;&#1088;&#1086;&#1077;&#1082;&#1090;&#1099;.pdf" TargetMode="External"/><Relationship Id="rId3" Type="http://schemas.openxmlformats.org/officeDocument/2006/relationships/hyperlink" Target="file:///&#1057;-20.%20&#1052;&#1072;&#1090;&#1077;&#1084;&#1072;&#1090;&#1080;&#1095;&#1077;&#1089;&#1082;&#1080;&#1081;%20&#1082;&#1088;&#1091;&#1078;&#1086;&#1082;.pdf" TargetMode="External"/><Relationship Id="rId4" Type="http://schemas.openxmlformats.org/officeDocument/2006/relationships/hyperlink" Target="file:///&#1057;-21.&#1057;&#1090;&#1088;&#1072;&#1085;&#1080;&#1095;&#1082;&#1072;%20&#1050;&#1077;&#1085;&#1075;&#1091;&#1088;&#1091;.pdf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7;-22.%20&#1050;&#1086;&#1084;&#1073;&#1080;&#1085;&#1072;&#1090;&#1086;&#1088;&#1080;&#1082;&#1072;.pdf" TargetMode="External"/><Relationship Id="rId2" Type="http://schemas.openxmlformats.org/officeDocument/2006/relationships/hyperlink" Target="file:///&#1057;-23.%20&#1042;&#1077;&#1088;&#1086;&#1103;&#1090;&#1085;&#1086;&#1089;&#1090;&#1100;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7;-24.%20&#1053;&#1077;&#1088;&#1072;&#1074;&#1077;&#1085;&#1089;&#1090;&#1074;&#1072;..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7;-1.&#1041;&#1077;&#1089;&#1077;&#1076;&#1072;%20&#1086;%20&#1082;&#1086;&#1088;&#1085;&#1103;&#1093;%20&#1084;&#1085;&#1086;&#1075;&#1086;&#1095;&#1083;&#1077;&#1085;&#1072;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CC0-AF30-49F0-8F40-5556F1898BE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73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МК 7-9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здательство Бином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М.И.Башмаков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Picture 0" descr="mado-6"/>
          <p:cNvPicPr/>
          <p:nvPr/>
        </p:nvPicPr>
        <p:blipFill>
          <a:blip r:embed="rId1"/>
          <a:stretch/>
        </p:blipFill>
        <p:spPr>
          <a:xfrm>
            <a:off x="6858000" y="685800"/>
            <a:ext cx="1704960" cy="1552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100-5B9B-4DB2-843F-5BD29B2FB05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1066680" y="0"/>
            <a:ext cx="746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учебниках используется разработанная классификация стилей учебной работы: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алгоритмический;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 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визуальный;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 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прикладной;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5"/>
              </a:rPr>
              <a:t>исследовательский;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7f32"/>
                </a:solidFill>
                <a:uFillTx/>
                <a:latin typeface="Times New Roman"/>
                <a:hlinkClick r:id="rId6"/>
              </a:rPr>
              <a:t> 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7"/>
              </a:rPr>
              <a:t>игровой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8"/>
              </a:rPr>
              <a:t>.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се эти стили широко представлены в учебниках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828800" y="838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7337"/>
                </a:solidFill>
                <a:latin typeface="Times New Roman"/>
              </a:rPr>
              <a:t>Стили обучения математик</a:t>
            </a:r>
            <a:r>
              <a:rPr b="0" lang="ru-RU" sz="3200" spc="-1" strike="noStrike">
                <a:solidFill>
                  <a:srgbClr val="ae7337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ae733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4FBD-842C-4C9B-9373-D5513778CB1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труктура учебников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бник разбит на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глав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аждая глава разбита на параграф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аждый параграф разбит на небольшие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зделы. Условно  можно считать каждый раздел уро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Теоретический текст сделан очень коротким. О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требует внимательного чтения и обдумывани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каждой главе помещены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комментарии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к текст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араграф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5C62-875A-4521-A9E2-26707149EB1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труктура учебников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оретический материал завершается трем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четырьмя </a:t>
            </a:r>
            <a:r>
              <a:rPr b="0" lang="ru-RU" sz="28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вопросами,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веряющими усвоен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атериала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осле изложения теоретического материала 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ждом параграфе помещены </a:t>
            </a:r>
            <a:r>
              <a:rPr b="0" lang="ru-RU" sz="28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задан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Здесь сосредоточены как простые задания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оставляющие минимальную основу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ормирования обязательных навыков, так 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задания повышенной сложност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7BA-1DEC-4C6E-82B2-D1A49976FAA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труктура учебник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ктически каждая параграф  учебника завершаетс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беседой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держание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бесед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злично. Одни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з них посвящены истории математики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ругие — расширению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теоретического материала, треть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дводят некоторые итоги курс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Picture 0" descr="mado-8"/>
          <p:cNvPicPr/>
          <p:nvPr/>
        </p:nvPicPr>
        <p:blipFill>
          <a:blip r:embed="rId3"/>
          <a:stretch/>
        </p:blipFill>
        <p:spPr>
          <a:xfrm>
            <a:off x="6324480" y="3429000"/>
            <a:ext cx="2181240" cy="28861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2626"/>
                </a:solidFill>
                <a:latin typeface="Times New Roman"/>
              </a:rPr>
              <a:t>Решаем вмест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ногда в тексте, но чаще всего среди заданий помещаются задачи с решениями, при этом решения даются очень подробные, каждый шаг обосновывается. Такие задачи имеют название </a:t>
            </a:r>
            <a:r>
              <a:rPr b="0" lang="ru-RU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Решаем вместе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F3C6-74C4-43AB-9FF6-9FAD3DB2A03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79E2-B5AD-4633-A7EA-8DAAB4AE29E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Задания к каждой глав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 каждой главе подобраны задания, которые  нацелен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зучение основных алгоритм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становление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 соответствий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ежду различными формами подачи информаци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мение приводить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 доказательств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елать необходимые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подсчет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оводить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 исследовани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8FF-A1FC-4200-8DF0-A388B6F08D7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чень интересный вид заданий 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Автоматы</a:t>
            </a: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 ученика, привыкшего выполнять задания такого типа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вряд ли возникнут проблемы при изучении сложно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ункции и решению связанных с этим понятием задач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иведем  два примера. Первый пример позволяе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лучить выражение с помощью двух автоматов, один из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торых прибавляет 1, а второй  умножает полученно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ражение на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торой пример требует придумать очередность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именения этих автоматов, чтобы получить заданно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ражени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Автоматы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D21-7976-440B-98EF-7F2AD1FBD64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Пример1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Автоматы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752480" y="2209680"/>
          <a:ext cx="58834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883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6CE-B05A-4CFA-BFA6-F90E6CE7249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Пример 2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Автоматы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990720" y="2514600"/>
          <a:ext cx="7619760" cy="373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76197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5B4-D22F-43EB-A63B-8F65B83B15A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ПРИКЛАДНЫЕ  ЗАДАЧИ</a:t>
            </a:r>
            <a:r>
              <a:rPr b="0" lang="ru-RU" sz="40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_x000b_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 этот раздел включены простые задачи н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равномерное движение, несколько задач из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таринного задачника. Сюда же включен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занимательные задачи на составление уравнений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 также на различные средние, оценк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результатов вычислений, особенно част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используемые в статистике и не тольк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85A-BD6A-419D-BCFC-72238E6FADF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Идейная направленность учебников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ундаментальные математические идеи имею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глубокие связи с различными сторонами жиз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Человека. Место математики в систем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ечеловеческих ценностей определяетс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глубоким воздействием,  которое она може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казать на развитие личности индивидуум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Главное богатство математики — эт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зданный ею мир идей. Наиболее значительны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з них должны войти в сознание каждог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кретного человека  независимо от выбираемого им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офессионального  пути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BC6-AE41-4CE7-9306-C628E44386A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Доказательств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акие задачи  и теоретические рассуждения обычно считаются самыми трудными, но в учебнике можно двигаться от простых задач к более общим и более  сложным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8BD-D234-41C9-8674-EAD40917F6C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990720" y="380880"/>
            <a:ext cx="761976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Сюжеты и проекты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обую роль играют развернутые задания —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сюжеты и проекты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Они выделены для каждой главы. В сюжетах предлагается серия задач, развивающих одну идею. Сюжеты, как правило, расширяет запас теоретических сведений. Проекты играют другую роль — они тоже предлагают определенный сюжет, но требуют длительной самостоятельной работы. Итоги работы над проектом могут быть оформлены в виде реферата или доклада на кружке или конференции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учебник включены материалы для занятий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математического круж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, странички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«Кенгуру»,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вещающие 20-летний опыт популярного международного игрового конкурса по математике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820-0F83-4050-B709-0CA48593469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Комбинаторика и вероятность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дельный параграф в учебнике 7 класс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священ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комбинаторике.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зучается правил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оизведения, число размещений (в том числе 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вторениями), подсчеты количества операций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ерестановки, подсчет числа делителей.  Затем все эт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нятия используются при изучении классически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теорем 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теории вероятностей.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 комбинаторике и теори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ероятностей посвящено большое количество зада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65CB-643C-4225-9ED8-741615993A9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838080" y="380880"/>
            <a:ext cx="77724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2626"/>
                </a:solidFill>
                <a:latin typeface="Times New Roman"/>
              </a:rPr>
              <a:t>Неравенства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тановимся подробнее на двух важных темах, одна из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торых «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Неравенств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»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теме «Неравенства» особое внимание обращается на технику алгебраических преобразований. Сюда же включены вопросы вычисления приближенных значений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и изучении темы неравенства происходит существенное развитие математического языка. Прежде всего это касается логики. При работе с неравенствами широко используются  значки             . Постепенно и осторожно вводятся  теоретико-множественные обозначения – объединения, пересечения, принадлежность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4876920" y="4572000"/>
          <a:ext cx="9255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572000"/>
                    <a:ext cx="925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442-2195-425F-AF9D-389351C5F78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9144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торая  важная тема, на которой бы хотелось остановиться, - это «Квадратные уравнения». Изучение темы начинается с чисто алгебраической стороны – разложения на множители, теоремы Виета, симметричных выражений и т.п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дача. Чему равна сумма квадратов корней уравнения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и конкретных числовых значениях коэффициентов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вет: Если корни есть, то сумма их должна равнятьс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Если затем предложить  сделать то же самое для уравнения                               ,   то получим -1. Это показывает, что таких корней быть не может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1143000" y="3733920"/>
          <a:ext cx="236232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2362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1066680" y="4876920"/>
          <a:ext cx="114300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1143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3048120" y="5181480"/>
          <a:ext cx="20574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181480"/>
                    <a:ext cx="2057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Прямоугольник 6"/>
          <p:cNvSpPr/>
          <p:nvPr/>
        </p:nvSpPr>
        <p:spPr>
          <a:xfrm>
            <a:off x="2209680" y="68580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2626"/>
                </a:solidFill>
                <a:latin typeface="Times New Roman"/>
              </a:rPr>
              <a:t>Квадратные уравнени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781-CD96-4DF4-93C7-A5454980756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838080" y="304920"/>
            <a:ext cx="7772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ешение таких уравнений представляет собой первую непростую (математики говорят «нетривиальную») алгебраическую задачу, которая была решена многократно в древности. От этого она не стала легче, и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бник представляет большую и  интересную работу по исследованию квадратного уравнения и нахождению его корней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сследованию квадратного трехчлена, в зависимости от его коэффициентов, посвящены сюжеты, проекты, занятие математического кружка и страничка «Кенгуру»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бник позволяет заглянуть вперед, исследуя корни многочлена любой степени, и познакомиться с теоремой Виета для него, оглянуться назад во времена Евклида и посмотреть, как справлялись с этой проблемой в древности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2209680" y="68580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2626"/>
                </a:solidFill>
                <a:latin typeface="Times New Roman"/>
              </a:rPr>
              <a:t>Квадратные уравнени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EB62-C8D2-41B9-BC06-E52979F6885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685800" y="914400"/>
            <a:ext cx="79246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2626"/>
                </a:solidFill>
                <a:latin typeface="Times New Roman"/>
              </a:rPr>
              <a:t>Навигация по учебнику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На полях учебника находятся специальные значки-пиктограммы. Они </a:t>
            </a: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помогут легче и быстрее ориентироваться в заданиях:</a:t>
            </a: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905040" y="2819520"/>
            <a:ext cx="6765840" cy="2638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5229-DBD4-4882-B192-FBFD0B4E326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762120" y="685800"/>
            <a:ext cx="7924680" cy="9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2626"/>
                </a:solidFill>
                <a:latin typeface="Times New Roman"/>
              </a:rPr>
              <a:t>Другие   возможност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Мы уже упоминали  Математический кружок 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раничка Кенгуру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учебники практически ко всем темам есть ссылки на электронные пособия , которые предоставляет, например,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Единая коллекция цифровых образовательных ресурсов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ая глава в учебнике 9 класса посвящена Подготовке к  ГИА. Она являетс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ключительной и позволяет повторить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есь материал 7-9 классов, проверить не только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вою готовность к ГИА, но и свою готовность к продолжению образования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43800" y="4495680"/>
            <a:ext cx="1100160" cy="15447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8F7-6205-474C-892E-7DC8E2BB48E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a2626"/>
                </a:solidFill>
                <a:latin typeface="Times New Roman"/>
              </a:rPr>
              <a:t>Содержание учебников 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Алгебра 7 клас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Алгебра 8 класс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2626"/>
                </a:solidFill>
                <a:latin typeface="Times New Roman"/>
              </a:rPr>
              <a:t>Алгебра 9 класс</a:t>
            </a:r>
            <a:r>
              <a:rPr b="1" lang="ru-RU" sz="2400" spc="-1" strike="noStrike">
                <a:solidFill>
                  <a:srgbClr val="9a262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9D5-4F5D-436D-9FCE-DAD69E9FB1C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996633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47720" y="501588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d3333"/>
              </a:solidFill>
              <a:latin typeface="Times New Roman"/>
            </a:endParaRPr>
          </a:p>
        </p:txBody>
      </p:sp>
      <p:pic>
        <p:nvPicPr>
          <p:cNvPr id="196" name="Picture 1024" descr="mado-6b"/>
          <p:cNvPicPr/>
          <p:nvPr/>
        </p:nvPicPr>
        <p:blipFill>
          <a:blip r:embed="rId1"/>
          <a:stretch/>
        </p:blipFill>
        <p:spPr>
          <a:xfrm>
            <a:off x="3581280" y="1219320"/>
            <a:ext cx="2181240" cy="15904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Основные направления, нашедшие отражение в учебник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1. Усиление содержательной стороны обучения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держательная, идейная сторона учебников алгебры 7-9 классов может быть существенно усилена при сохранении доступности курс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2. Последовательное проведение алгебраической точки зрения,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ее согласование с распространенным функциональным взглядом на многочлены, алгебраические дроби и квадратные уравн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3. Расширение и структуризация способов действий,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включение новых типов заданий, создание основы для индивидуализации обучения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4. Визуализация учебного текста.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9A6-FC68-4D00-AF3D-A9F2AE46472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Особенность учебников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19A-15AB-41EF-B5EE-CF1380B0B41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990720" y="160020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атериал, помещенный в учебнике (как теоретический, так и в особенности практический), выбран с избытком, чтобы обеспечить различные направления, потребности и вкусы в преподавании алгебры.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 учебнике представлены такие типы учебных заданий, как игры с автоматами, матричные тесты, развернутые сюжеты, циклы задач на доказательство, исследовательские работы.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Основные принципы обучения математике по М.И. Башмакову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EBC-C3FA-4BE5-BC73-A1C661E5C8C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990720" y="1676520"/>
            <a:ext cx="77724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7337"/>
                </a:solidFill>
                <a:latin typeface="Times New Roman"/>
              </a:rPr>
              <a:t>Первый принцип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 бояться использовать доступные для понимания слова, которые еще не были строго определены. Обычно ребята на интуитивном уровне этими понятиями владеют. А если нет, то следует поощрять вопросы с их стороны. Ответ на них, пусть более или менее поверхностный, стимулирует дальнейшую работу мысли. </a:t>
            </a:r>
            <a:br>
              <a:rPr sz="2000"/>
            </a:b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просы учеников возникают только при активной мыслительной деятельно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Цитата из предисловия:</a:t>
            </a:r>
            <a:br>
              <a:rPr sz="2000"/>
            </a:b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«Не пугайтесь, если вы встретите задачу, в которой используются новые слова или незнакомые вам сведения. Спросите о них учителя, попробуйте прочесть в других книгах. В крайнем случае, оставьте их на будущее…»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Второй принцип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877-BDF0-467E-AC7D-E9DEFC9DC5E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0666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казаться от линейности изложения курса. В одной школе (классе) ребятам посильней нужна одна последовательность изложения, в другой – другая. Если в изучаемой главе нужно вернуться к некоторым понятиям, которые еще не были изучены, можно пояснить их и двигаться дальше. Ребята к такой работе с текстом давно привыкли, сидя за компьютером, умеют пользоваться поисковиками, так почему же не предоставить им такую возможность.</a:t>
            </a:r>
            <a:br>
              <a:rPr sz="2400"/>
            </a:b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итата из предисловия: «Не старайтесь изучать учебник строчка за строчкой – его надо смело листать, заглядывая вперед, оборачиваясь назад».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7D0-D25C-4A0F-B826-74E64DB5164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066680" y="38088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е обязательно использовать 100% изложенного в учебнике. Автор любит сравнивать </a:t>
            </a:r>
            <a:br>
              <a:rPr sz="2400"/>
            </a:b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бник со щедро накрытым  пиршественным столом. Все всем «проглотить» невозможно. Лучше задержаться на главных идеях, прочувствовать их и понять.</a:t>
            </a:r>
            <a:br>
              <a:rPr sz="2400"/>
            </a:b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му в большой мере способствуют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беседы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, которые присутствуют в каждой теме, где осторожно подходят к изучаемому понятию. </a:t>
            </a:r>
            <a:br>
              <a:rPr sz="2400"/>
            </a:b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2133720" y="8240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7337"/>
                </a:solidFill>
                <a:latin typeface="Times New Roman"/>
              </a:rPr>
              <a:t>Третий принцип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061-84E3-4BDE-9455-771185E5512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-887400" y="74880"/>
            <a:ext cx="109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6. Важно, чтобы ребята уже с самого раннего изучения математики, могли сами прочесть текст и, прочитав его, выполнить задание.</a:t>
            </a:r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887400" y="74880"/>
            <a:ext cx="109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6. Важно, чтобы ребята уже с самого раннего изучения математики, могли сами прочесть текст и, прочитав его, выполнить задание.</a:t>
            </a:r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1219320" y="609480"/>
            <a:ext cx="7086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7337"/>
                </a:solidFill>
                <a:latin typeface="Times New Roman"/>
              </a:rPr>
              <a:t>Четвертый принцип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ебята  уже с самого раннего изучения математики  должны  уметь прочесть текст и, прочитав его, выполнить задания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1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250-BA61-4D5B-9CCD-14AA6122462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838080" y="533520"/>
            <a:ext cx="77724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и изучении математики ребятам должно быть интересно, поэтому должны быть использованы те технологии, которые подогреют этот интерес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Например, можно разделить ребят на группы так, чтобы в одну группу попали ребята одной силы. Они могут получать задания, одинаковые для всех ребят одной группы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и правильном решении всех заданий можно перейти в более сильную группу. Если ребята не справляются с заданием, то их можно перевести в более слабую группу, подчеркивая, что они учатся и не все могут выполнить сразу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Возможны и другие методы стимулирования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Нужно приучать ребят к трудной работе по усвоению и применению в нужный момент основных алгоритмов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Можно использовать математические игры, естественно, не на каждом уроке,  электронные обучающие программы и т.п.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522960" y="609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7337"/>
                </a:solidFill>
                <a:latin typeface="Times New Roman"/>
                <a:ea typeface="Times New Roman"/>
              </a:rPr>
              <a:t>Пятый принцип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5:39:02Z</dcterms:created>
  <dc:creator>1</dc:creator>
  <dc:description/>
  <dc:language>en-US</dc:language>
  <cp:lastModifiedBy>Mark</cp:lastModifiedBy>
  <dcterms:modified xsi:type="dcterms:W3CDTF">2012-01-02T20:01:26Z</dcterms:modified>
  <cp:revision>192</cp:revision>
  <dc:subject/>
  <dc:title>Моделирование в среде "The Geometer's Sketchpad"</dc:title>
</cp:coreProperties>
</file>